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009-E67C-417F-821B-652A3B3D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BF6-6743-4EFD-AF5F-133EFEA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107BC-830A-441A-856E-0715033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480E-10E7-4734-8882-C65BC93D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04E05-3F94-4F12-BBF5-6240631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CA88A-500C-4878-AB3D-9A9DB1A5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560E6-6300-4FF8-BD5E-45AD3B6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DFB95-B1EF-4D71-9366-EBF30A8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0415-138A-4670-B196-43313A3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58D75-30AF-46A7-ABB0-04954C3E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EFD1B-D781-4F3B-84CE-51C4E8BD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9C5-17DE-4506-B067-9D317F63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271-6BCD-4A32-98DD-57BB7680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F05-7B2F-4229-B6BE-4815757A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940-E7C1-49F2-82A9-0D4F99E1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3853-60A2-4601-9C1F-40E6679A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3BB3-8F72-4844-A17E-6D9C69B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D1AA-4297-45AC-84BB-3DE8D41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EE7-792C-4304-A723-EC81DCB9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7383-72A4-4FCE-8E71-35ACF74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A24-33DB-4F1D-8052-883E4FD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5D16-31E3-4FBE-8301-AD35687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D5B-3B1E-4521-9F54-CDE89B1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8C0-699D-47D4-80BE-DBA0EA91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0CE-5A86-4FD0-9DDF-A7F3AF57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7CDE-276B-4D9F-820E-CF6C6D05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74EF-C472-4AC9-BB76-649AEAC9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DD63-9784-47D7-86D5-27148D1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900B-8657-4C26-8C58-F447E23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9A49-4C1E-426B-84AB-984BEA8F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6838-7EB4-4037-82DF-81013745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ED8-829F-49F8-A880-02E69C72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D065-59E6-45EB-9A69-93C69660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2BC7-B7E4-4E32-8D58-43E53D4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8D47-ED5F-41DB-8FB3-B833F59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8A67-FDF1-40B4-807C-1CF2349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C820-1461-4872-9CD5-FE2BED3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AF1B-2A36-421E-B2EB-DA07554E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E912-5D76-4D88-9027-A228F0D1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DE42-9ABC-47C3-AC1C-DAB60D6F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EDF3-13BF-4B2C-883D-77ECD598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DD9AC-E193-419E-A074-266D7A2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49D-D87A-45FC-B3B9-2F076ED8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34DA-C10F-4C31-BCD8-0C0B031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B5CB-B941-4D73-AA88-AA920DDF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78B7-FDCF-428F-B6ED-04C0640C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C557-2614-4AFE-94C1-A7C0E67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344F-0126-4180-96FD-D303BE91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BC4C-CA92-4FB8-924D-3E63F51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9356-0B89-4330-89EB-B4B5761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47FB-086D-4C0B-B215-4FD608C4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CC59-685D-4E26-B9C2-270D6B0A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77F8-B20A-472D-98D5-AA7BC2BB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EA6-A8D6-4DB1-85CA-4D7CCAF8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3C9C-A9B5-4966-8BFD-7D70566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6314-9C42-4B5E-9E30-81AAB7AF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36A2-A137-4665-95DF-67BA1E5E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F3545-52CD-4CDF-B754-1AC216F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B8FD3-4E06-41D1-A54F-DDDE3AF7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8391-4BB0-413B-8C45-02F856F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50B2-819B-4748-9B93-1003439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B938C-6BDC-41F3-91FF-E6C06AE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7968-ED33-4243-AD5C-CEBDC992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2061-B4BF-4035-A80F-A2CFE66D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5C0-50FE-4C2C-A34A-0E079D4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18BA1-AD82-440D-A694-13744F0A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4B42-4032-4CE5-8B5C-CA1D6CF9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13DD-CA86-49D7-828A-3B8CE8A2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C2065-E563-427E-8DAE-180EC89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8D0A5-D015-46A6-B85B-66FD810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B9A5-7261-436D-9059-A5298D3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66C24-EA85-4444-8E62-3E699644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363C8-4108-4655-988B-861E912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FA86-1B98-46DA-973B-21FAFA0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131F-C6D0-41B9-B0DD-592F08B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7D7-D2F6-4D8D-A211-60DA8FA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03C03-7D6E-4917-BC5F-8349135A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4A9A2-EE08-4228-AF36-E360776E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8468-D7B0-4875-A546-ECE61043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143A3-F839-411C-9B62-89B7F7A0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40B5-D6D8-4C73-9AA3-F218EFE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C37B5-9A57-48D5-8242-4D9E11FB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27FF-F903-490E-91C7-DE84CD65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B9D06-51E4-4ACA-8D94-5DA20841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AAC4D-B2C9-4C12-BCB0-332C398F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B9EA-B4CB-4D25-A418-0DFF850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AEE-514C-472D-8483-8ED1337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2E7F7-7D1C-4A0F-B02E-A0D26971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3C33E-DB5E-45E8-B538-494EEC7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81974-AA77-44D6-AF2C-0A243789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6CD17-89CC-4BD2-9FD7-4DED063B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0EF5-0B3D-4EFC-9FAF-EE7AA521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C524-9392-4046-84A1-FF1F347D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B49D-2FBF-401D-93A5-D7D7EE63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320C-1F34-4038-AA62-DAA09490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0BBD-0AD7-4D82-ADD2-7C7E1105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71E43-7967-4C5C-B23F-28EB11FC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980-58CD-4E2C-9B67-A2878DF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46CE-3571-4A26-9DB6-0A56828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0D6D-F100-4755-9D33-9F70358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6D88E-43C2-444F-A93C-153F62E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0842-15CE-4F35-BE15-0BE6ED1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4C24-FA83-44CB-B45A-3735C820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F64C-FA66-4352-8C82-9E508A21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B795-A545-4DE4-8788-9F8B18AD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663F5-C480-4F2D-996E-B0504B28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A3169-2EE0-4D5C-ABBF-1A93F7D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61D78-E5FF-4F51-B7C8-5B923F22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554-EDF9-46B2-98C9-4B7F5EDB76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D5E-46DC-445C-9FE1-4B63ED0E7B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F86C-19E0-4D69-9609-786247CC82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6248-E949-4AF2-8362-98FF020A6C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29E9-BAF2-4A10-8F4F-A8371D64B00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66F2-34E5-4B9E-B6D9-C9F868F93A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344F-5363-4892-9F17-3909F35990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59E-36C4-4691-8676-A55B74621C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92F3-D0A8-41BD-B72D-629672C0A8D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Не говори, что делал, 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а говори, что сделал.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dd2b1"/>
                </a:solidFill>
                <a:latin typeface="Franklin Gothic Book"/>
              </a:rPr>
              <a:t>(пословица)</a:t>
            </a:r>
            <a:endParaRPr b="0" lang="en-US" sz="48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всем  удач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овторение основных 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28760" y="7142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…,            которая обращает каждое уравнение системы в …       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…                  или доказать, что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…; система не имеет решений, если прямые …        ; если прямые …                    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500120" y="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ове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42876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 значений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обращает каждое уравнение системы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доказать, ч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я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сек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истема не имеет решений,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впад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рафически, способом перебора (подбора), подстановки, сло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560" y="1071360"/>
            <a:ext cx="4190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4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8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х = 0,16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х - 7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(3 – х) = 9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–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7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у = -0,2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у + 1 = 2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3(у – 15) = 0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071720"/>
            <a:ext cx="419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4 –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8 – 2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0,0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4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1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2 +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7 – 4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0,0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1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се правильно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8-9 правильных ответов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7-6-5  правильных ответов –  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 остальных случаях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357200" y="714240"/>
            <a:ext cx="678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42920" y="42876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 5x +2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Левая фигурная скобка 2"/>
          <p:cNvSpPr/>
          <p:nvPr/>
        </p:nvSpPr>
        <p:spPr>
          <a:xfrm>
            <a:off x="285840" y="500040"/>
            <a:ext cx="285840" cy="785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071880" y="42876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-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357880" y="5000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2 (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 – 3x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)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"/>
          <p:cNvSpPr/>
          <p:nvPr/>
        </p:nvSpPr>
        <p:spPr>
          <a:xfrm>
            <a:off x="3929040" y="500040"/>
            <a:ext cx="107172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7"/>
          <p:cNvCxnSpPr/>
          <p:nvPr/>
        </p:nvCxnSpPr>
        <p:spPr>
          <a:xfrm flipH="1">
            <a:off x="2571120" y="857160"/>
            <a:ext cx="1429560" cy="28656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3" name="Овал 8"/>
          <p:cNvSpPr/>
          <p:nvPr/>
        </p:nvSpPr>
        <p:spPr>
          <a:xfrm>
            <a:off x="1643040" y="928800"/>
            <a:ext cx="357120" cy="5000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9"/>
          <p:cNvSpPr/>
          <p:nvPr/>
        </p:nvSpPr>
        <p:spPr>
          <a:xfrm>
            <a:off x="5357880" y="642960"/>
            <a:ext cx="214200" cy="71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13"/>
          <p:cNvCxnSpPr>
            <a:stCxn id="421" idx="5"/>
          </p:cNvCxnSpPr>
          <p:nvPr/>
        </p:nvCxnSpPr>
        <p:spPr>
          <a:xfrm>
            <a:off x="4843440" y="864720"/>
            <a:ext cx="1944000" cy="13572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6" name="Овал 14"/>
          <p:cNvSpPr/>
          <p:nvPr/>
        </p:nvSpPr>
        <p:spPr>
          <a:xfrm>
            <a:off x="6786720" y="1000080"/>
            <a:ext cx="128556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000080" y="200016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14 – 6x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- 6x = 3 –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11x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2"/>
          <p:cNvSpPr/>
          <p:nvPr/>
        </p:nvSpPr>
        <p:spPr>
          <a:xfrm>
            <a:off x="928800" y="3357720"/>
            <a:ext cx="1071360" cy="42840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25"/>
          <p:cNvSpPr/>
          <p:nvPr/>
        </p:nvSpPr>
        <p:spPr>
          <a:xfrm>
            <a:off x="2019240" y="939960"/>
            <a:ext cx="2703600" cy="2616120"/>
          </a:xfrm>
          <a:prstGeom prst="pie">
            <a:avLst/>
          </a:pr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27"/>
          <p:cNvCxnSpPr/>
          <p:nvPr/>
        </p:nvCxnSpPr>
        <p:spPr>
          <a:xfrm flipH="1" flipV="1">
            <a:off x="4571640" y="928080"/>
            <a:ext cx="72000" cy="214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1" name="Прямая со стрелкой 29"/>
          <p:cNvCxnSpPr/>
          <p:nvPr/>
        </p:nvCxnSpPr>
        <p:spPr>
          <a:xfrm>
            <a:off x="4713840" y="928440"/>
            <a:ext cx="143640" cy="2858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32" name="TextBox 30"/>
          <p:cNvSpPr/>
          <p:nvPr/>
        </p:nvSpPr>
        <p:spPr>
          <a:xfrm>
            <a:off x="3571920" y="38577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7 – 3•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85880" y="48578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твет :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Решением системы является пара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x = 1;  y = 4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(1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714240" y="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и решении системы двух линейных уравнений с двумя переменными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ыразить из какого-нибудь уравнения одну переменную через другу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дставить в другое уравнение системы вместо этой переменной полученное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решить получившееся уравнение с одн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найти соответствующее значение втор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2"/>
          <p:cNvSpPr/>
          <p:nvPr/>
        </p:nvSpPr>
        <p:spPr>
          <a:xfrm>
            <a:off x="500040" y="1143000"/>
            <a:ext cx="8358120" cy="478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45:06Z</dcterms:created>
  <dc:creator>Алёна</dc:creator>
  <dc:description/>
  <dc:language>en-US</dc:language>
  <cp:lastModifiedBy>iLvit</cp:lastModifiedBy>
  <dcterms:modified xsi:type="dcterms:W3CDTF">2012-04-11T17:50:32Z</dcterms:modified>
  <cp:revision>49</cp:revision>
  <dc:subject/>
  <dc:title>Слайд 1</dc:title>
</cp:coreProperties>
</file>